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55A8-6689-4FEE-A5DE-2180FC59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B18B-F097-4EAF-B03A-2D695515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6F4D-AD8F-4831-A83F-8852050E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8BF0-F033-4182-A5AD-1024A72A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F7C3-F102-486A-90AB-730E5572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7F4E-946A-4404-A6FD-765A4AF3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BB56-D860-48BC-B0CA-442A65D5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04FC-018E-4E2B-8EC9-432F1699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DE4C-DB43-4041-9CD8-8A2EC1A9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033C-5E08-4900-8922-0C6BD237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861F-7674-4EEC-8845-1023C292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7263-FFC4-424C-8BA0-98B1B1F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BDEB-996B-4A33-A447-F74AAC4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4404-EB21-490B-800E-B7A3976C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05F8-EE50-4DE3-AA37-F8F8D85E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4486-0754-41F6-8A84-3E82EAE8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F173-9985-40C7-AB32-4B0CEDE0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FFDC-DAA5-4D90-9E75-99F4C1F2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EF1E-B17E-4060-A7EF-1A7887C8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4583-E3B5-4AF4-81C1-15DBD21C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8F45-FA39-4F4A-9540-94C7EA87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8650-AC17-4573-A075-BF8EFB2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73CB-0E9E-4C99-8F08-AFD8C4FD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F752-BEFC-4921-9DB9-6AD72DF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C1A-355A-4C8C-A999-70F31F83E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5326-2B21-4644-85F3-C42A08DF4D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BLOOM'S TAXONOMY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61680"/>
            <a:ext cx="7772400" cy="39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concrete to ab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mprehens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-Or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ynthes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Monotype Sorts" charset="2"/>
              <a:buChar char="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al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-317520"/>
            <a:ext cx="7775280" cy="23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sual Learning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s Visual Representation of Id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s Diagrams and Outl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s Critical Think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zes and Clarifies Thoughts and Idea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ets Curriculum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-317520"/>
            <a:ext cx="7775280" cy="23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ons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790640"/>
            <a:ext cx="8839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synchronous/asynchronous commun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s/Receives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s/Receives Video/Au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s/Receives Attach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5325" t="2720" r="10285" b="3474"/>
          <a:stretch/>
        </p:blipFill>
        <p:spPr>
          <a:xfrm>
            <a:off x="6095880" y="3384720"/>
            <a:ext cx="2997360" cy="33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siderations for using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pplic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52640" y="1790640"/>
            <a:ext cx="4800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-2714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Databas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Use with information that has repetitive patterns and can be easily describ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Spreadsheet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Use with sets of numbers that have repetitive patterns which can be described with at least two variables (Row &amp; Column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Word Processing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with information that can be paraphrased or organized in meaningful way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90640" y="1682640"/>
            <a:ext cx="4653000" cy="353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616680" indent="-2372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Brows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Use to access information or to engage in interactive learn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Presentation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to display information that can be enhanced by interactivit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Visual Learning Software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to create visual maps of ideas, deepen understanding of concepts, and tap creativit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e5e5ff"/>
              </a:buClr>
              <a:buSzPct val="70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0081"/>
                </a:solidFill>
                <a:latin typeface="Garamond"/>
              </a:rPr>
              <a:t>Communication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Use when interactivity with others will enhance lear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628560" y="15699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~ KISS ~ Approach </a:t>
            </a:r>
            <a:br>
              <a:rPr sz="4400"/>
            </a:br>
            <a:r>
              <a:rPr b="1" i="1" lang="en-US" sz="3200" spc="-1" strike="noStrike">
                <a:solidFill>
                  <a:srgbClr val="dc0081"/>
                </a:solidFill>
                <a:latin typeface="Garamond"/>
              </a:rPr>
              <a:t>Keep it Simple Sweethe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714680"/>
            <a:ext cx="82296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with what students are to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problem for students to so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Computer tool - if 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Students Learn </a:t>
            </a:r>
            <a:br>
              <a:rPr sz="4000"/>
            </a:br>
            <a:r>
              <a:rPr b="1" i="1" lang="en-US" sz="4000" spc="-1" strike="noStrike">
                <a:solidFill>
                  <a:srgbClr val="dc0081"/>
                </a:solidFill>
                <a:latin typeface="Garamond"/>
              </a:rPr>
              <a:t>Some Exam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90640"/>
            <a:ext cx="403848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 or mathematici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vil Rights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torical land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461880" indent="-22860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790640"/>
            <a:ext cx="38098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P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s and their 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ther patt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cities or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angered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volcano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79600" indent="-281160">
              <a:lnSpc>
                <a:spcPct val="15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Monotype Sort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8560" y="16462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lanets in Our Solar Syst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333440"/>
            <a:ext cx="807732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e5ff"/>
                </a:solidFill>
                <a:latin typeface="Times New Roman"/>
              </a:rPr>
              <a:t>Primary Learning obj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tion and Characteristics of each plan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e5ff"/>
                </a:solidFill>
                <a:latin typeface="Times New Roman"/>
              </a:rPr>
              <a:t>Primary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ould your life be different if you lived on another plane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628560" y="9604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Plan activities that require higher-order thinking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95440" y="1662120"/>
            <a:ext cx="824220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what students will need to do to solve the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n earth, you become one year older every 365 days.  On which planet would you be the oldest ~ young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s many of the following as possi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zing ~ planning ~ modify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patterns ~ classify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sequences ~ comparing/contr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zing ~ elaborating ~ analyzing ~ evalu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ample Activities that require Higher-Order Thinking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1400" y="900000"/>
            <a:ext cx="6946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 earth, you become one year older every 365 days.  On which planet would you be the oldest ~ younge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1738440"/>
            <a:ext cx="732780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Planet infor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planning ~ analyzing ~ synthesizing ~evalu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Planet data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planning ~ synthesizing ~ analyzing ~ 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modif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net database to identify planet on which students would be oldest ~ young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recognizing patterns ~ analyz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comparing/contrasting ~ classifying ~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finding se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Sample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1400" y="900000"/>
            <a:ext cx="3594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hich planet would you weigh the most ~ lea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7720" y="1814400"/>
            <a:ext cx="732780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lect Planet infor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planning ~ analyzing ~ synthesizing ~evalu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 Planet spreadshe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planning ~ synthesizing ~ analyzing ~ </a:t>
            </a: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modifying ~ calculating ~ cha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Planet spreadsheet to identify planet on which students would weigh the most ~ l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Verdana"/>
              </a:rPr>
              <a:t>comparing/contrasting ~ analyz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Arial"/>
              </a:rPr>
              <a:t>Sample Activities that require Higher-Order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7939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1400" y="747720"/>
            <a:ext cx="4051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modifications would your body need to survive on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7720" y="1814400"/>
            <a:ext cx="732780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llect Plane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planning ~ analyzing ~ synthesizing ~evalu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ign a Planet diagram to show similarities/differences between Earth and M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recognizing patterns ~ comparing/contrasting ~ finding sequences ~ classifying ~ analyz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PowerPoint to create a slideshow that describes the needed modific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planning ~ classifying ~ comparing/contr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c0081"/>
                </a:solidFill>
                <a:latin typeface="Arial"/>
              </a:rPr>
              <a:t>synthesizing ~ elaborating ~  evalu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o ~ What is Higher-Order Thinking?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othesizing ~ planning ~ modify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ognizing patterns ~ classify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ing sequences ~ comparing/contras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thesizing ~ elaborating ~ analyzing ~ evalua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other words...higher-order thinking is any activity which requires students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c0081"/>
                </a:solidFill>
                <a:latin typeface="Garamond"/>
              </a:rPr>
              <a:t>process information in meaningful 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628560" y="118908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ince teachers are expected to use computers to engage students in Higher-Order Thinking..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dc0081"/>
                </a:solidFill>
                <a:latin typeface="Garamond"/>
              </a:rPr>
              <a:t>How do we do it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377172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ology Competent Teac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ffective Instructional Strateg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91880" indent="-1918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ffective Integration Meth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1280" y="2749680"/>
            <a:ext cx="30146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are the Functions of Basic Computer Application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8200" y="2016000"/>
            <a:ext cx="4759200" cy="40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readshe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d Process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sual Learning Soft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Zapf Dingba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ows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28560" y="17226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65640" y="3489480"/>
            <a:ext cx="3368880" cy="2852640"/>
            <a:chOff x="5165640" y="3489480"/>
            <a:chExt cx="3368880" cy="28526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165640" y="3489480"/>
              <a:ext cx="336888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85920" y="3819600"/>
              <a:ext cx="1874520" cy="155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514"/>
                  </a:solidFill>
                  <a:latin typeface="Arial"/>
                </a:rPr>
                <a:t>Sor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514"/>
                  </a:solidFill>
                  <a:latin typeface="Arial"/>
                </a:rPr>
                <a:t>Matc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514"/>
                  </a:solidFill>
                  <a:latin typeface="Arial"/>
                </a:rPr>
                <a:t>Calculat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base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638360"/>
            <a:ext cx="57150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re data in rec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rt data (alpha or numeri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ch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ge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specialized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3608280"/>
            <a:ext cx="354168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readsheet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Calcul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rt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Charts/Grap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91280" y="3075120"/>
            <a:ext cx="3436920" cy="36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d Processing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0400" y="1599840"/>
            <a:ext cx="4518000" cy="402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it and format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Outl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 Colum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te T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ert Graph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628560" y="134136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451480" y="3295800"/>
            <a:ext cx="3263760" cy="2920680"/>
            <a:chOff x="5451480" y="3295800"/>
            <a:chExt cx="3263760" cy="29206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5451480" y="3295800"/>
              <a:ext cx="3263760" cy="29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102360" y="3541680"/>
              <a:ext cx="2062080" cy="1488960"/>
            </a:xfrm>
            <a:prstGeom prst="rect">
              <a:avLst/>
            </a:prstGeom>
            <a:solidFill>
              <a:srgbClr val="000514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562800" y="3692520"/>
              <a:ext cx="1111320" cy="115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owser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52320" y="1866600"/>
            <a:ext cx="5715000" cy="30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1" marL="623880" indent="-23976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arches by  Key W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okmarks web s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erLinks to text, virtual tour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Interactive Feedb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0120" y="3124080"/>
            <a:ext cx="3403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-317520"/>
            <a:ext cx="7775280" cy="23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s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s Navig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es Ani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erts or Creates Graphics and Sound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erts Vid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628560" y="1265400"/>
            <a:ext cx="8058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7:10:30Z</dcterms:created>
  <dc:creator>EBRPSS</dc:creator>
  <dc:description/>
  <dc:language>en-US</dc:language>
  <cp:lastModifiedBy>EBRPSS</cp:lastModifiedBy>
  <dcterms:modified xsi:type="dcterms:W3CDTF">2008-03-18T20:34:07Z</dcterms:modified>
  <cp:revision>7</cp:revision>
  <dc:subject/>
  <dc:title>BLOOM'S TAXONOMY </dc:title>
</cp:coreProperties>
</file>